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6C58-BA8F-4DD9-9125-2070405DD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673A-74DD-4F55-87F1-482D8D58F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F110-EE81-4D77-8039-C253A61DA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31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81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31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81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CC21-FFA2-4685-B662-880DB4416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E1BC-D96D-4C71-877D-8CCA8DFFBD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3ADC-4FDF-4E4F-8864-4ACE0EA17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D011-CCD2-4A3C-9D95-220D1565A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9C1C-859D-40B8-9F82-7DAB4935F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6834-8752-4295-9AD1-6BE8EB3E1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A165-5BB4-47E8-AB66-85F6C10E2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C505-A99F-429F-B701-A20D8DEDD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D23A-AC4B-4ED8-AFA8-390807545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SquireD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1" marL="653760" indent="-251280">
              <a:spcBef>
                <a:spcPts val="901"/>
              </a:spcBef>
              <a:buClr>
                <a:srgbClr val="99ff99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2" marL="1005840" indent="-200880">
              <a:spcBef>
                <a:spcPts val="901"/>
              </a:spcBef>
              <a:buClr>
                <a:srgbClr val="99ff99"/>
              </a:buClr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3" marL="1407960" indent="-200880">
              <a:spcBef>
                <a:spcPts val="901"/>
              </a:spcBef>
              <a:buClr>
                <a:srgbClr val="99ff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4" marL="1810440" indent="-200880">
              <a:spcBef>
                <a:spcPts val="901"/>
              </a:spcBef>
              <a:buClr>
                <a:srgbClr val="99ff99"/>
              </a:buClr>
              <a:buFont typeface="Tahoma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5" marL="1810440" indent="-200880">
              <a:spcBef>
                <a:spcPts val="901"/>
              </a:spcBef>
              <a:buClr>
                <a:srgbClr val="99ff99"/>
              </a:buClr>
              <a:buFont typeface="Tahoma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6" marL="1810440" indent="-200880">
              <a:spcBef>
                <a:spcPts val="901"/>
              </a:spcBef>
              <a:buClr>
                <a:srgbClr val="99ff99"/>
              </a:buClr>
              <a:buFont typeface="Tahoma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99ff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scox@umas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692B-0FB3-4185-BCB9-91D63506B44D}" type="slidenum"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20" y="5181480"/>
            <a:ext cx="125748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A Ninth Grade Course in Science and Technology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65724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Scott A. Cox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Upper Merion Area High Schoo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King of Prussia, PA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…</a:t>
            </a: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Not “Science &amp; Society”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Students are expected to master a comprehensive set of scientific principles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Social implications are discussed only after the science is understood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… </a:t>
            </a: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Not “Physical Science”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The organizational scheme is “technical” not “academic”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Despite substantial overlap, many topics are not addressed in physical science texts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Future Development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Refinement and expansion of text resource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Development of internet gateway 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omic Sans MS"/>
              </a:rPr>
              <a:t>(http://scitechcourse.wikispaces.com)</a:t>
            </a:r>
            <a:endParaRPr b="0" lang="en-US" sz="28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Organization of teachers manual of resource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SquireD"/>
              </a:rPr>
              <a:t>Wikispaces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Wikis work for the benefit of readers.</a:t>
            </a:r>
            <a:endParaRPr b="0" lang="en-US" sz="32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Wikis are free content that many people can edit. </a:t>
            </a:r>
            <a:endParaRPr b="0" lang="en-US" sz="32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Wikis works by building consensus. </a:t>
            </a:r>
            <a:endParaRPr b="0" lang="en-US" sz="3200" spc="-1" strike="noStrike">
              <a:solidFill>
                <a:srgbClr val="99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(These statements are modifications of three of Wikipedia’s Five Pillars.)</a:t>
            </a:r>
            <a:endParaRPr b="0" lang="en-US" sz="32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SquireD"/>
              </a:rPr>
              <a:t>Wikis In Action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Contribute Ideas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Discuss Before Deleting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Organize Without Purging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Be Nice. Turn the Other Cheek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64832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"We live in a society exquisitely dependent on technology, in which hardly anyone knows anything about science and technology.  This is a clear prescription for disaster."</a:t>
            </a:r>
            <a:endParaRPr b="0" lang="en-US" sz="36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1640" y="54097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--Carl Sagan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Evolution of The Course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Began as a third-year course for non-college-bound student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Became a replacement for ninth grade Physical Science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Now offered at all academic levels from Honors to Remedia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A Radical Restructuring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Content is organized around areas of technology…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not scientific disciplines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All units incorporate chemistry, physics, earth/space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Curriculum Priorities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Incorporate Life Experience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Integrate Scientific Discipline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Promote Career Awarenes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Teach Science of Social Issue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Curriculum Priorities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Connect to Popular Media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Promote Independent Research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Answer Common Question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Encompass State Standard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Course Curriculum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Energy and Technology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Information and Technology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Space and Technology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Environment and Technology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Key Differences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Media-Friendly” Topic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Just-in-Time” Knowledge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Contextual” Learning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Thematic Reinforcement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Jumping-Off” Point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It is Not “Physics First”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Physics content is introduced, but not systematically or exhaustively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Many topics of chemistry and biology are also required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7:01:28Z</dcterms:created>
  <dc:creator>Scott A. Cox</dc:creator>
  <dc:description/>
  <dc:language>en-US</dc:language>
  <cp:lastModifiedBy>Scott A. Cox</cp:lastModifiedBy>
  <dcterms:modified xsi:type="dcterms:W3CDTF">2007-10-25T20:23:40Z</dcterms:modified>
  <cp:revision>15</cp:revision>
  <dc:subject/>
  <dc:title>A Ninth Grade Course in Science and Technology</dc:title>
</cp:coreProperties>
</file>